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583-434C-45DB-9904-57081B46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A66-2A47-4C4C-A403-FEDA35A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F18-5CE6-42BB-BB7B-D87AF28F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E6C-B5A8-446C-B7D8-90C365F8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95C-73A0-4AD1-B590-575187C0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91B-D25E-40A5-964A-A695A951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B4A-1803-4DB4-90C2-E706A7BC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211-2550-4DE8-B67D-B8E3BE4C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B7C-577A-4656-8BB9-16FEE396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97C-8DAF-4928-8ECD-EC9FE6D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4E2-97C2-4A9E-A842-86AEF218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3A3-7292-4B3A-B2CD-36E0556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B0DF-4CD8-4D39-B9AD-FEF44FAE8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image" Target="../media/image29.jpeg"/><Relationship Id="rId4" Type="http://schemas.openxmlformats.org/officeDocument/2006/relationships/image" Target="../media/image27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jpeg"/><Relationship Id="rId4" Type="http://schemas.openxmlformats.org/officeDocument/2006/relationships/image" Target="../media/image20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ico García Lorca (1898-193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66680"/>
            <a:ext cx="8686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cero gita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2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ita el romancero medieval porque sus romances tien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cararácter nar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trama fragmentaria; empiez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medias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elementos dramáti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fonía (varias vo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rsos octosíla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eticiones – de versos o de estrib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04920"/>
            <a:ext cx="8610480" cy="74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ico García Lorca (1898-193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mancero gita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28): “Romance sonámbulo”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es de leer: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¿Qué asocias con el color verde?  ¿Has visto alguna vez un cuadro abstracto en que predominara el verde dicho o sus mat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¿Qué es un sonámbulo?  ¿Has conocido a alguien que haya sufrido de esa condición?  Explica.  ¿Crees que los sonámbulos saben o recuerdan lo que han hec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¿Qué emoción fuerte puede llevar a un individuo a suicidarse?  ¿Crees que el amor podría ser una causa?  Ex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0"/>
            <a:ext cx="6629400" cy="68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ón para comprender mej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Romance sonámbulo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 algunas casas del sur de España se construí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bercas o aljib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n la terraza o techo de la casa para recoger el agua en tiempos de lluvia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as terrazas en el piso superior de la casa tenían barandas alrededor para formar una division protectora.  Este parece ser el tipo de vivienda que se describe en el poe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Romance sonámbul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91520" y="2286000"/>
            <a:ext cx="152388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21337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ma: Un chico gitano, posiblemente perseguido por las autoridades civiles, llega herido a la casa del padre de su querida, una gitana que se ahogó en el aljibe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5720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sonámbulo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The image “http://arthistory.westvalley.edu/images/C/COURBET/WOUNDED_MAN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0880" y="4191120"/>
            <a:ext cx="3810240" cy="2381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The image “http://www.portsilver.com/images/tom/fragments/the%20drowned%20woman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4267080" y="4191120"/>
            <a:ext cx="4114800" cy="237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sonámbulo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The image “http://www.trimstyledecor.co.za/images/Kays-house-1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019920" y="1828800"/>
            <a:ext cx="2209680" cy="1795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The image “http://arthistory.westvalley.edu/images/C/COURBET/WOUNDED_MAN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80880" y="4191120"/>
            <a:ext cx="381024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The image “http://www.utexas.edu/coc/cms/graphics/2guys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2971800" y="2286000"/>
            <a:ext cx="297180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The image “http://www.portsilver.com/images/tom/fragments/the%20drowned%20woman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4267080" y="4191120"/>
            <a:ext cx="4114800" cy="2373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he image “http://www.pintlarterritories.com/images/strob-lightedPath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609480" y="1828800"/>
            <a:ext cx="2286000" cy="1866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1219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a: la decadencia del orden establecido y el des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68580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08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mance de la luna, lun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7772400" y="-4724280"/>
            <a:ext cx="16611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romance la luna, símbolo surrealista de la muerte, se lleva al niño gitano, dejado solo en la fr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052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agua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152424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ssg67" descr=""/>
          <p:cNvPicPr/>
          <p:nvPr/>
        </p:nvPicPr>
        <p:blipFill>
          <a:blip r:embed="rId2"/>
          <a:stretch/>
        </p:blipFill>
        <p:spPr>
          <a:xfrm>
            <a:off x="3352680" y="4495680"/>
            <a:ext cx="3505320" cy="205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8610480" y="2362320"/>
            <a:ext cx="244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7-06-end-t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144792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jinete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mujer_luna" descr=""/>
          <p:cNvPicPr/>
          <p:nvPr/>
        </p:nvPicPr>
        <p:blipFill>
          <a:blip r:embed="rId5"/>
          <a:stretch/>
        </p:blipFill>
        <p:spPr>
          <a:xfrm>
            <a:off x="6858000" y="2819520"/>
            <a:ext cx="2057400" cy="3733560"/>
          </a:xfrm>
          <a:prstGeom prst="rect">
            <a:avLst/>
          </a:prstGeom>
          <a:ln w="0">
            <a:noFill/>
          </a:ln>
        </p:spPr>
      </p:pic>
      <p:pic>
        <p:nvPicPr>
          <p:cNvPr id="54" name="1939_28" descr=""/>
          <p:cNvPicPr/>
          <p:nvPr/>
        </p:nvPicPr>
        <p:blipFill>
          <a:blip r:embed="rId6"/>
          <a:stretch/>
        </p:blipFill>
        <p:spPr>
          <a:xfrm>
            <a:off x="6858000" y="53352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2900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The image “http://www.craftingpa.com/files/Boy_profile.jpg” cannot be displayed, because it contains errors."/>
          <p:cNvPicPr/>
          <p:nvPr/>
        </p:nvPicPr>
        <p:blipFill>
          <a:blip r:embed="rId7"/>
          <a:stretch/>
        </p:blipFill>
        <p:spPr>
          <a:xfrm>
            <a:off x="1752480" y="1295280"/>
            <a:ext cx="144792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971800" y="3809880"/>
            <a:ext cx="98280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3276720" y="10666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380880"/>
            <a:ext cx="89154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ico García Lorca (1898-1936)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cero gita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28): “Romance de la        luna, lun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00200"/>
            <a:ext cx="76960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es de le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¿Qué experiencias de la vida suelen marcar la transformación de un niño en un hombre?  Piensa en la pérdida de fe en ciertas personas o animales leyend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¿Por qué es triste el hecho de que un niño deje de creer en Santa Claus, las brujas de Halloween, o hasta en los conejitos que traen caramelos en las Pascu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808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0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de la luna, luna”,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The image “http://images.google.com/images?q=tbn:rYVXjdnmf9wJ:http://www.gomezrufo.net/Portada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914400" y="1981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The image “http://www.chinchillademontearagon.com/d_artesania/juanjo/fragua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12960" y="3809880"/>
            <a:ext cx="230184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The image “http://spec.lib.vt.edu/imagebase/civwar/thumbnail/CIV0163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429000" y="1981080"/>
            <a:ext cx="190512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The image “http://historymatters.gmu.edu/images/gown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3390840" y="4495680"/>
            <a:ext cx="195444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The image “http://www.gwu.edu/~fwright/graphics/horsemen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5486400" y="198108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The image “http://www.nftsfilm-tv.ac.uk/films/fiction/2004/Playing%20Dead/Playing%20Dead%20-%20Main%20Still.jpg” cannot be displayed, because it contains errors."/>
          <p:cNvPicPr/>
          <p:nvPr/>
        </p:nvPicPr>
        <p:blipFill>
          <a:blip r:embed="rId6"/>
          <a:stretch/>
        </p:blipFill>
        <p:spPr>
          <a:xfrm>
            <a:off x="5486400" y="4572000"/>
            <a:ext cx="297180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a: la tenue línea entre lo real y lo ilus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609480"/>
            <a:ext cx="83055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de la pena negra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s de le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¿Has tenido sentimientos hondos que no podías expresar abiertament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¿Has experimentado una especie de pena como resultado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The image “http://sherrysheartbeats.homestead.com/files/woman_crying.._reversed_image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029200" y="1371600"/>
            <a:ext cx="2895480" cy="20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he image “http://www.mccormickgallery.com/martinez_jpg/painting5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2819520" y="1600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04920"/>
            <a:ext cx="8610480" cy="74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geográfico- cultur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ha dicho que Soledad Montoya es la personificación de la pena negra, la cual es la raíz del pueblo andaluz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 pena negra no es angustia, porque con pena, se puede sonreír, ni es un dolor que ciega, puesto que jamás produce llant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ansia sin objeto; es un amor agudo a nada, con una seguridad de que la muerte (preocupación perenne de Andalucía) está respirando detrás de la pue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biográfic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García Lorca fue homosexual y no pudo expresar sus sentimientos abiertamente dentro de la cultura española en la cual viv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 de la pena negra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The image “http://windom.cybox.com/ilana/hike/horse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85800" y="190512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The image “http://threadsofatattinggoddess.blogspot.com/gypsy%20woman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The image “http://www.mccormickgallery.com/martinez_jpg/painting5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429000" y="19051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The image “http://www.funroll.com/Myphotos/Pacific%20Dusk%20Sky%203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3429000" y="4419720"/>
            <a:ext cx="5257800" cy="224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The image “http://sherrysheartbeats.homestead.com/files/woman_crying.._reversed_image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5257800" y="1905120"/>
            <a:ext cx="3352680" cy="2354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838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a: ganar y perder en el juego del amor: la pasión entre le hombre y la mu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57200"/>
            <a:ext cx="7162920" cy="66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onja gitana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tes de le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Has tenido la experiencia de intentar concentrarte en una tarea y ser interrumpido por tus fa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as?  Ex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¿Has tenido la experiencia de sentirte restringido por tus deberes y de visualizar otra cosa que prefer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hacer?  Ex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The image “http://www.pemberley.com/janeinfo/181kerst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168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The image “http://www.feyerabend.com/media/2003/2003_1/two_horsemen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6858000" y="3581280"/>
            <a:ext cx="1925640" cy="289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08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onja gitana” de Federico García Lorca, España, 19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The image “http://images.google.com/images?q=tbn:hFwCE5J5r3cJ:http://www.juntadeandalucia.es/averroes/cp_erytheia/lorca/lor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0880" y="4419720"/>
            <a:ext cx="1981440" cy="213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The image “http://www.abcgallery.com/C/cassatt/cassatt9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2438280" y="2438280"/>
            <a:ext cx="3305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The image “http://www.pemberley.com/janeinfo/181kerst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80880" y="2514600"/>
            <a:ext cx="198144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The image “http://www.feyerabend.com/media/2003/2003_1/two_horsemen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5791320" y="2438280"/>
            <a:ext cx="293688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10666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as: a) éxtasis y epifanías, b) ganar y perder en el juego del amor: la pasión entre el hombre y la mu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7:58:08Z</dcterms:created>
  <dc:creator>Ruth Ward</dc:creator>
  <dc:description/>
  <dc:language>en-US</dc:language>
  <cp:lastModifiedBy>A W</cp:lastModifiedBy>
  <dcterms:modified xsi:type="dcterms:W3CDTF">2007-05-12T22:52:14Z</dcterms:modified>
  <cp:revision>72</cp:revision>
  <dc:subject/>
  <dc:title>PowerPoint Presentation</dc:title>
</cp:coreProperties>
</file>